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0DE-6C11-4F2E-812C-370AB129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4E0-BEA0-4AA1-9C2C-09F76A15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ED9-D602-4FC8-95D6-4F22FF75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895-DCA0-4CFF-864D-C06C30E0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94C9-6EC1-468F-89E9-C2C341BC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1446-7108-458A-9807-75A1A808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19A-1427-4BB8-90E9-871DC002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324D-3410-4833-9AFC-4E8F741B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D3EB-2FC4-437B-9485-CF506B3B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A952-1BDB-4DE7-BEC3-9D897A95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8181-A504-4652-A2E3-B9A81746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D23-F990-4247-82DF-DE5E88D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464B-0FEA-48A8-8592-91B74AF0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95D7-EA96-4C13-9E14-831A96F3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C82F-4DE5-4A21-B85E-8FDD385D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56E0-DF40-4779-8250-760EC3AA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22B7-FC23-459C-B690-7DF726C8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036-60C2-4B8C-A83A-9DDF405D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F5C-FD32-403C-9DA0-640392E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A77-2DBA-49EE-A76D-3216E50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7BA-9AB7-4E1C-AAED-8EE13410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452-473C-4108-8D33-1B0A0C0B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5FB-13D9-48CE-8630-DA86E7D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609-8883-4642-85E1-E179F571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B823-2E8D-48CC-9ABB-01E743FFB39A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3C7E-9759-4F51-956E-79121C5F5B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92A7-1FC2-4305-8479-EA8A796A9F26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59F2-B588-4E96-BEB9-77D3492A47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ellbio.utmb.edu/cellbio/filam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Cell Membra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24800" cy="44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C037-42EE-4541-B59A-5D9B7B9203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15B8FF-545F-4EC1-94EF-0E88B029E375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7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8" dur="17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10800000">
                                      <p:cBhvr>
                                        <p:cTn id="2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ransmembrane Protei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s decrease the surface tension and allow for flexibility in the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4248360" cy="305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3962160" cy="25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DCD-C959-4048-BCE4-08104AF440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410C-9A7D-4E73-9878-7AB30596A935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892 -0.01065 C -0.22691 1.85184999999984E-006 -0.23594 0.01065 -0.23993 0.02407 C -0.24392 0.03866 -0.24601 0.05602 -0.24792 0.07338 C -0.25 0.09074 -0.24792 0.10532 -0.24601 0.12129 C -0.24392 0.13611 -0.24097 0.15208 -0.23385 0.16528 C -0.22795 0.1787 -0.21788 0.18935 -0.20694 0.19745 C -0.19687 0.20532 -0.1849 0.21065 -0.17292 0.21342 C -0.16094 0.21597 -0.14896 0.21597 -0.13785 0.21342 C -0.12587 0.21065 -0.11493 0.20393 -0.1059 0.19329 C -0.09687 0.18403 -0.08889 0.17199 -0.0849 0.15741 C -0.07986 0.14398 -0.07795 0.12546 -0.07795 0.11065 C -0.07691 0.09606 -0.07795 0.0787 -0.08299 0.06412 C -0.08785 0.05069 -0.09687 0.04004 -0.10885 0.03472 C -0.12101 0.03079 -0.13299 0.03611 -0.14097 0.04537 C -0.14792 0.05463 -0.15295 0.06944 -0.15399 0.08657 C -0.15399 0.10393 -0.15295 0.11991 -0.14792 0.13333 C -0.14288 0.14676 -0.14392 0.1493 -0.12396 0.16666 C -0.1059 0.18541 -0.08785 0.18009 -0.07691 0.18125 C -0.06597 0.18125 -0.05694 0.17592 -0.04601 0.1706 C -0.03385 0.16412 -0.02396 0.15208 -0.01684 0.14143 C -0.0099 0.13079 -0.00694 0.11736 -0.00295 0.09606 C 0 0.07477 0 0.06412 0 0.04791 C 0 0.03194 0 0.01597 0 1.85185E-006 E">
                                      <p:cBhvr>
                                        <p:cTn id="35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892 -0.01065 C 0.22691 -3.70370000000661E-007 0.23594 0.01065 0.23993 0.02407 C 0.24392 0.03866 0.24601 0.05602 0.24792 0.07338 C 0.25 0.09074 0.24792 0.10532 0.24601 0.1213 C 0.24392 0.13611 0.24097 0.15208 0.23385 0.16528 C 0.22795 0.1787 0.21788 0.18935 0.20694 0.19745 C 0.19688 0.20532 0.1849 0.21065 0.17292 0.21343 C 0.16094 0.21597 0.14896 0.21597 0.13785 0.21343 C 0.12587 0.21065 0.11493 0.20394 0.1059 0.19329 C 0.09688 0.18403 0.08889 0.17199 0.0849 0.15741 C 0.07986 0.14398 0.07795 0.12546 0.07795 0.11065 C 0.07691 0.09607 0.07795 0.0787 0.08299 0.06412 C 0.08785 0.05069 0.09688 0.04005 0.10885 0.03472 C 0.12101 0.03079 0.13299 0.03611 0.14097 0.04537 C 0.14792 0.05463 0.15295 0.06944 0.15399 0.08657 C 0.15399 0.10394 0.15295 0.11991 0.14792 0.13333 C 0.14288 0.14676 0.14392 0.14931 0.12396 0.16667 C 0.1059 0.18542 0.08785 0.18009 0.07691 0.18125 C 0.06597 0.18125 0.05694 0.17593 0.04601 0.1706 C 0.03385 0.16412 0.02396 0.15208 0.01684 0.14144 C 0.0099 0.13079 0.00694 0.11736 0.00295 0.09607 C 0 0.07477 0 0.06412 0 0.04792 C 0 0.03194 0 0.01597 0 -3.7037E-007 E">
                                      <p:cBhvr>
                                        <p:cTn id="35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Glycolipids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(outside of cel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gar groups projecting into the extracellular space (</a:t>
            </a:r>
            <a:r>
              <a:rPr b="0" i="1" lang="en-US" sz="2800" spc="-1" strike="noStrike">
                <a:solidFill>
                  <a:srgbClr val="6699ff"/>
                </a:solidFill>
                <a:latin typeface="Tahoma"/>
              </a:rPr>
              <a:t>blue col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protective, insulators, and sites of receptor binding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communi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3759120"/>
            <a:ext cx="601956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521-C463-41F1-8F6F-F8EC48F894F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99F10-C2AE-43F3-918B-B6B6C247F498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holestero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ount of cholesterol may vary with the type of membra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sma membranes have nearly one cholesterol per phospholipid molec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membran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ike those around bacteria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ve no choleste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cholesterol.jpg (33106 bytes)"/>
          <p:cNvPicPr/>
          <p:nvPr/>
        </p:nvPicPr>
        <p:blipFill>
          <a:blip r:embed="rId1"/>
          <a:stretch/>
        </p:blipFill>
        <p:spPr>
          <a:xfrm>
            <a:off x="6477120" y="1676520"/>
            <a:ext cx="198108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EA5-DEB9-440A-A27D-14481840EB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0F265-93D5-4363-BD7B-C68DE0842DDB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holesterol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obilize the top part of the phospholipid molecu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kes the lipid bi-layer less deformable and decreases its permeability to small water-soluble molecules (stabilizes cell sh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cholesterol (such as in a bacterium) a cell would need a cell 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ts crystallization of hydrocarbons and phase shifts in the membra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cholesterol.jpg (33106 bytes)"/>
          <p:cNvPicPr/>
          <p:nvPr/>
        </p:nvPicPr>
        <p:blipFill>
          <a:blip r:embed="rId1"/>
          <a:stretch/>
        </p:blipFill>
        <p:spPr>
          <a:xfrm>
            <a:off x="6477120" y="1676520"/>
            <a:ext cx="198108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B10-B1FB-45E5-AA1F-5815CD0781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FF428-53A1-485B-B83E-83AB7D52F889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5 0.05556 L 0.10833 -0.26597 E">
                                      <p:cBhvr>
                                        <p:cTn id="43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is the cell membran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utermost lining of a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s the internal from the external enviro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imary boundary in animal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 have a rigi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ell wall as w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4952880" cy="20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F3C-E195-4715-91DE-FCF212D4B8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6A949-DA96-4E3B-8C22-AE0442043F77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at are membranes fo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16160" y="1392120"/>
            <a:ext cx="729288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e transport of substances into and out of the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for cell 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nchoring sites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cytoskeletal filamen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 components of the extracellular matri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stable site for the binding of enzy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passageway across the membrane for certain molecu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24A-BEBA-4523-9253-6BDFAE7D10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8B2BE-7EFE-4AF6-8944-986544A92A92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istory of Knowledg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 &amp; D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0-40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of two layers of lip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in co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open gaps – “por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DDmodel.jpg (24594 bytes)"/>
          <p:cNvPicPr/>
          <p:nvPr/>
        </p:nvPicPr>
        <p:blipFill>
          <a:blip r:embed="rId1"/>
          <a:stretch/>
        </p:blipFill>
        <p:spPr>
          <a:xfrm>
            <a:off x="457200" y="3809880"/>
            <a:ext cx="3809880" cy="2370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Robertson.jpg (25707 bytes)"/>
          <p:cNvPicPr/>
          <p:nvPr/>
        </p:nvPicPr>
        <p:blipFill>
          <a:blip r:embed="rId2"/>
          <a:stretch/>
        </p:blipFill>
        <p:spPr>
          <a:xfrm>
            <a:off x="4876920" y="3809880"/>
            <a:ext cx="3733560" cy="2435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24280" y="1143000"/>
            <a:ext cx="4191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ROBERTSON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1950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oated with a glycoprotein cov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O Large open gaps – “por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83B-5810-496D-B240-33A6B217FC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E334D-8B87-4809-BF7A-FF11440FBC48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luid Mosaic Mode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7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er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hol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ranes function in two dimen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lecules can rotate and move laterally (no flip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ins embedded randomly (a mosa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791320" cy="30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17A-DE8B-4CD3-8F89-9C4973B4DB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3142E-47B8-4473-B8A5-FACB9A0A1A26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How is the membrane constructed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mbles a railroad track, otherwise known as a fluid mosaic mod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layers of phospholip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ittent prot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in to lip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 varies by cell typ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4191120" cy="28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3F5-ACA4-45E6-87B6-EAC14D7D5B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A8950-281C-4D95-A9C8-86AFF9243941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hospholipid Bi-lay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pid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phipath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dual pass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philic” polar heads pointing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phobic” portion forming the c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s fluid characte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molecules are in constant 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200484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56006" r="0" b="0"/>
          <a:stretch/>
        </p:blipFill>
        <p:spPr>
          <a:xfrm>
            <a:off x="3505320" y="4191120"/>
            <a:ext cx="426708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97D-F1D3-439E-85C7-44E86087EA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D5614-C22F-4199-AA31-D314537C8B2C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Key Parts to the Plasma Membra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2882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embrane protein and Peripheral Prote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during active transport of particles across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ycolip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leste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B47-B0D5-412D-BCB9-FB45279F77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55DA6-C0B9-4FCD-8F36-94350651DFB6}" type="datetime1">
              <a:rPr lang="en-US"/>
              <a:t>07/29/26</a:t>
            </a:fld>
          </a:p>
        </p:txBody>
      </p:sp>
    </p:spTree>
  </p:cSld>
  <p:transition spd="med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rotein Typ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67440" cy="3353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1371600"/>
            <a:ext cx="464796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Transmembrane – transverse the entire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Arial"/>
              </a:rPr>
              <a:t>Tube for pa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tegral – dissect through one side of the membrane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Arial"/>
              </a:rPr>
              <a:t>Turnstile for 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Peripheral – attached on one side of membrane without intersecting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  <a:ea typeface="Arial"/>
              </a:rPr>
              <a:t>Attachment site for other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052-7E61-40A8-BD4D-ECD06A9A16C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8CFB9-49FD-4B9D-AE4A-5821ED70681D}" type="datetime1">
              <a:rPr lang="en-US"/>
              <a:t>07/29/26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connor</cp:lastModifiedBy>
  <dcterms:modified xsi:type="dcterms:W3CDTF">2008-10-26T15:11:05Z</dcterms:modified>
  <cp:revision>14</cp:revision>
  <dc:subject/>
  <dc:title>PowerPoint Presentation</dc:title>
</cp:coreProperties>
</file>